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4604-1F3B-4F02-A6E2-5A34928D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D2A7-61FA-4DE3-AC7C-BD4DCD35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2730-E58E-4124-B94D-D7A2F771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EFC8-BD2A-4624-A03D-26E4809A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52E7-6A5D-42CD-B110-B24FCC6C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15B0-73D9-4B14-9DFA-04FB787D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1063-3CF9-4864-8F4C-21F43140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6C13-3FAD-4D9E-BA9C-105EE4CF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9103-0B1B-48C4-ACBC-A5C43F98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897C-D0BF-4A25-916A-F45E864E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DE8B-E39B-4421-819D-357A6E15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4213-AA5E-40D7-9815-6C3FC717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7F6C-25D1-47D5-9487-281CFD053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Seits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2 novem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Jaan Priis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ünnete eripä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õhjus on tahtl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Hierarhia kõrvale on vaja sta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ahet saab mõju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Vastase informatsiooni saab rünn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Rünne on kahe tahte konfl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00720" y="5157720"/>
            <a:ext cx="165600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Intsidendi uurim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õige olulisem eesmärk on õppi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eejärel tõendite kogumine veenmise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aristamiseks (kohtumõist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Hüvitamiseks (kindlust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alesüüdistuste vääramis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aristamine ei ole esimene eesmä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Inimeste käitumise muutm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äitumist muutev sõnum tuleb kohale vi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meie ründamine on halb id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ristamine muudab sõnumi usutav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riikidel ustutav heidut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ahet mõjutatakse läbi tagasi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avastamine võib olla efektiivne mee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Õppimiseks valige odavad v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nimese ründekindlus on 500kr kuni 50Mkr, edasi on organisatsi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inimaalse töö taa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astane on a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is on minimaalselt vajal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Mille võib ohverd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ida meil selle tagamiseks vaja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illises järjekorrast tuleb taas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eil peab olema usaldatav pl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Testimise mõ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laani usaldusväärsuse kontr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as me teame kõiki kompo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as me teame kõiki sõltuvu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nimeste treeni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alitluspidevuse olulisuse õpeta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riisiolukorras käitumise lihvi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ntsidendi aja val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Käitumise paradigma muu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avaline juhti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Eesmärkide palju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Võimalikult lame ja ökonoom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Hälbeid arvestav ja välist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riisijuhti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Üks eesmä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Võimalikult kiire ja efektiiv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Otsustamatus on kulukam kui vi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riisis vajatakse teistsugust infovahetuse struktu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Ressursse tuleb ikkagi kasutada neid sää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Planeerim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unne ennast (Sun Ts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is on meie väärtuse a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ida me suudame ette võ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illine olukord on lootusetu (me oleme absurd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is aja jooksul peame taast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illist andmekadu võime endale lub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unne vastast (Sun Ts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uidas taastada tegevus nul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illiseid teisi olukordi meil ette võib tu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uidas aru saada millises olukorras ol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Ootamatuse plaan ei saa kunagi olla täp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Hea plaan võtab 10 aastat arenemis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Intsidentide liigi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õenäos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rol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idu/Pii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äi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septee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dlu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äi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hj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Tõenäosuse hindam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Ära kasuta suhtlemiseks prots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0 aastat on ülemine pi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Vali situatsioonid kus tegevuse mõte säil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orra päevas peab olema rutiinselt hallat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(Igapäevases tegevuses arvestatu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Põhimõt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Jaga ja valit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Funktsionaalsus tuleb maha piirata hallatavuse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Kõigile peab jääma nende õige “tük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Keerukus kaotab kontrollivõimaluse (KI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gas ahelas on tagasi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Protsessid on eksponentsiaal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Kõige olulisem number on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Küsimus pole mitte “kas” vaid mill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Alati võisteldakse aja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eist reaalsust pole o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67280" y="2852640"/>
            <a:ext cx="23814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uudat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is on plahvatuse al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uudatus (müü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Inimeste tunne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unnetatakse kiirend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kspondendi puhul sama kuju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S kõvera teise tuletise integraal on n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nimesete ootused on lineaar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jaloost õppides tehakse alati v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mpiiriline tunnetus on puudul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ärkused katkestuste koh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ahjud suurenevad eksponentsiaals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ntsident tuleb lahendada kiire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4h katkestus suurendas loomulikku 1/3 suremust 2/3-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ajanduse olulise haru katkes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Loomulik puhver 3 pä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10 päeva pärast säilib väärtusest 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Intsidendi käsit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Planeeri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ida me kaitseme (miinimum, millist aspek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ille vastu kaitseme (mis on absu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Ettevalmis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essu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re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Olukorra hindamine ja otsus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Juhtimine peab olema ki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Kahjude piiram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a töö peat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Minimaalse funktsionaalsuse ta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Normaalolukorra ta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Intsidendi analüü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Nõuab dokumenteerim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Dubleerimise mõ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" y="1600200"/>
            <a:ext cx="2243160" cy="4525920"/>
            <a:chOff x="457200" y="1600200"/>
            <a:chExt cx="2243160" cy="452592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224316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 txBox="1"/>
            <p:nvPr/>
          </p:nvSpPr>
          <p:spPr>
            <a:xfrm>
              <a:off x="457200" y="1600200"/>
              <a:ext cx="224316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71640" y="1628640"/>
            <a:ext cx="59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ähend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Süsteem ei töö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Üks pool on k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õik töö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Juhusliku ohu korral on kollase ruut pun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arandma peab kiire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9:03:57Z</dcterms:created>
  <dc:creator>Hansabank Employee</dc:creator>
  <dc:description/>
  <dc:language>en-US</dc:language>
  <cp:lastModifiedBy>Hansabank Employee</cp:lastModifiedBy>
  <dcterms:modified xsi:type="dcterms:W3CDTF">2008-11-21T23:15:35Z</dcterms:modified>
  <cp:revision>8</cp:revision>
  <dc:subject/>
  <dc:title>Seitsmes</dc:title>
</cp:coreProperties>
</file>